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19F32-C151-4498-897E-F8FEEF5CCBB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D133C-77E4-40BB-B810-BE2EC894634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17EB3-949C-4376-B314-D0AFD2A6907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4E15A-2E66-419F-857A-B3F12787348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7BB59-338B-44DD-A711-1C45A4FEB0DC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F9ED9-3ED7-4BE7-8F95-0B7FBB40EF4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F4A4D-9CEA-4136-8CCA-17973557579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FF3FB-E175-4231-85EF-D8386D7D6DE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19DC5-9581-4043-B6F8-1F48DF505352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B6ECC-7365-4574-8D7B-470D5E49238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375E2-2478-4E9F-B1C5-FF3D8AFF979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E5353-0790-4970-902B-73741A3F7B3D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C55-3EF6-46BE-A97C-364F40CF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66A-AA29-4686-AC16-ACF3615A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82E-3DF1-4399-A97C-F8A48C88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EC2-548B-4EA5-88EA-3EC28E78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B302-BE13-471D-B19A-F0941365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9D9-93A7-4955-8A05-33B7C004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890-F532-428E-A7E8-F8E2B923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E0B-EF6E-41A3-BB66-F4411ABD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23B-4188-43AC-9FAF-2890EA75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6E7-D787-4B08-9DE4-02F904AB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BBA-12B7-4E2E-8C04-6209BA05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F60-B15C-4522-96FE-2912D907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752B5-68A0-4714-8C62-E45C064D959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Le Nouveau cycle de développement de Firefo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7020000"/>
            <a:ext cx="907092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Mouhammadou Moustapha NI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9280" y="1835280"/>
            <a:ext cx="9720360" cy="4859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FIREFO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84120" y="6299280"/>
            <a:ext cx="86486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u final, une version donnée de Firefox passera par ce processu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ightly → Aurora → Bêta → Version final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eul Nightly est le lieu de dépôt des nouvelles fonctionnalité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urora et Bêta serviront de filtres afin d'évincer les fonctionnalités pas assez mû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735280" y="1187280"/>
            <a:ext cx="414036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3419640"/>
            <a:ext cx="10080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7200" spc="-1" strike="noStrike">
                <a:solidFill>
                  <a:srgbClr val="000000"/>
                </a:solidFill>
                <a:latin typeface="Arial"/>
              </a:rPr>
              <a:t>MERCI DE VOTRE AIMABLE ATTENTIO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Le Nouveau cycle de développement de Firefo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6360" y="2519280"/>
            <a:ext cx="3024360" cy="3060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0" y="5842080"/>
            <a:ext cx="28796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Premier logo de Firef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(versions 0.8 et 0.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3708360" y="2532240"/>
            <a:ext cx="287964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4408560" y="5842080"/>
            <a:ext cx="1479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Second logo de Firef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(versions 1.0 à 3.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20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7380360" y="2519280"/>
            <a:ext cx="2700360" cy="3060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818480" y="5842080"/>
            <a:ext cx="1720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roisième logo de Firef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(version 3.5 et supérieur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depuis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Le Nouveau cycle de développement de Firefo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433080" cy="53989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lvl="1" marL="863640" indent="0" algn="just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Décidée à accélérer le rythme de développement de Firefox, Mozilla adopte un canal de diffusion en 3 étapes où Aurora joue le rôle de préversion bêt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Le Nouveau cycle de développement de Firefo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1260360"/>
            <a:ext cx="10080720" cy="62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Le Nouveau cycle de développement de Firefo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1260360"/>
            <a:ext cx="10080720" cy="62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Le Nouveau cycle de développement de Firefo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1260360"/>
            <a:ext cx="10080720" cy="630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NIGHTLY BUILD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559640" y="0"/>
            <a:ext cx="2519280" cy="126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0" y="2014560"/>
            <a:ext cx="3600360" cy="306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6659640" y="2050920"/>
            <a:ext cx="3384360" cy="3060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36440" y="5167440"/>
            <a:ext cx="41832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Logo de Minefield (ancien nom des versions expérimentales de Firefo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889680" y="5167440"/>
            <a:ext cx="30099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Logo de Nightly (version expérimentale de Firefo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79280" y="5773680"/>
            <a:ext cx="87836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ightly est une version de Firefox éditée bien avant la version fina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'est le tout début de cette nouvelle ver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lle est disponible dans toutes les langues à partir des serve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TP de Mozilla. C'est la version n+3 de Firefox (où n est la version stable actuel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AUROR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619280" y="1835280"/>
            <a:ext cx="6659640" cy="4209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-68400" y="6300720"/>
            <a:ext cx="101491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urora sert à utiliser une version de Firefox bien avant la version finale et dans toutes les langu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'est la version n+2 de Firefox (où n est la version stable actuel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BET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808360" y="1220760"/>
            <a:ext cx="4500360" cy="3459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87280" y="5400720"/>
            <a:ext cx="96537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ersions créées à partir du dépôt mozilla-central, qualifiées par la QA comme étant de qual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uffisante pour être communiquées aux utilisateurs bê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09:14:32Z</dcterms:created>
  <dc:creator>Tapha NIANG</dc:creator>
  <dc:description/>
  <dc:language>en-US</dc:language>
  <cp:lastModifiedBy>Tapha NIANG</cp:lastModifiedBy>
  <dcterms:modified xsi:type="dcterms:W3CDTF">2011-11-26T13:22:18Z</dcterms:modified>
  <cp:revision>4</cp:revision>
  <dc:subject/>
  <dc:title>Le Nouveau cycle de développement de Firefox</dc:title>
</cp:coreProperties>
</file>